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68560" y="1306440"/>
            <a:ext cx="7325640" cy="4628160"/>
            <a:chOff x="1168560" y="1306440"/>
            <a:chExt cx="7325640" cy="4628160"/>
          </a:xfrm>
        </p:grpSpPr>
        <p:sp>
          <p:nvSpPr>
            <p:cNvPr id="89" name=""/>
            <p:cNvSpPr/>
            <p:nvPr/>
          </p:nvSpPr>
          <p:spPr>
            <a:xfrm>
              <a:off x="1168560" y="1306440"/>
              <a:ext cx="7325640" cy="46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2920" y="1306440"/>
              <a:ext cx="7249320" cy="46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97000" y="1430280"/>
            <a:ext cx="726912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9.03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8.08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standby and talk-values can not be re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D is the single supplier for major components LCD and FPC – quality risk in mas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+ tape out done with a delay of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 and bug tracking ha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mechanical qualification nearly finished – no major issues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wrong fixtures lead to limitations in B1.2 and B1.3 test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20T06:18:49Z</dcterms:modified>
  <cp:revision>715</cp:revision>
  <dc:subject/>
  <dc:title>PowerPoint Presentation</dc:title>
</cp:coreProperties>
</file>